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8216-FE48-41D9-AC89-55730DAFF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2DD6-8FCB-43AD-9919-C15B4CD05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D317-3342-49B9-9EBC-D222ECF70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2BD6-9794-400E-9633-E98FAA3C3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51C7-4526-4F8D-B4A3-41400D20A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3E57-C639-4E4A-9C69-9D28A98D7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8ECB-E5B7-4445-BB59-14B9C2B1E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C3EA-EFBF-4032-8284-655F65F6F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ACE8-80D0-4AD5-A629-7E7B758F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8314-3D48-4ADD-B458-29D981167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4903-43CD-4E18-A42E-A8FD0D980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4136-2CA3-43DF-BB5A-8EAD2BE3D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0E1A-4A01-41BC-B1B5-ABF7182ED13F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Documentation for provider contracts</a:t>
            </a: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"Provider Arrangements" Tab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py of contract(s) and/or agreement(s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ature pages and listing of contracted provider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0E3C-8869-46D5-89E7-FDE16FF256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larification of quality review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duct quality internal review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E286-64BE-480A-8084-11E23BDF4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laims Processing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ribe the claims processing workflow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Provide a list of all claim denial cod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. MA organization’s ability to document interest paymen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51E5-76A0-4F6C-A656-8CFAC3F4A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For non-network PFFS applicants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urance that organization can pay FFS claim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6EEA-A997-4A4E-9565-873BB78A4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MEDICARE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END OF CHAPTER DOCUMENTATION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imbursement Grid quarterly updat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ims system capabilities to pay claim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9274-C072-4122-A685-A91E99993D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3T15:39:4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387715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